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85C-3D63-4F0A-9E0F-B4E49F46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63A-D18E-4703-B69E-376E0CF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9DE-37EA-4E6D-9048-8CF3EBA0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1A1-1DDF-4BE3-BDF2-CCF2691B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E91-2AEC-4970-AFE7-3062207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08E-A184-461B-B34F-638F58A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DD9-BEE2-49BF-8612-65B780F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F44-6AFB-41E8-9841-CAC79946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A2F-7F0F-4030-B4BB-7CB8A27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82C-75C3-46B4-A31C-6FECA0C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ED6-E809-4B5F-AA87-F8C683A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BBB-0C92-4231-8EDA-756854E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4EF3-5B36-4926-A951-30DCEC3A56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verty, Parenting and Education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ndings from 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637000"/>
            <a:ext cx="799128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her Dermot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University of Brist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rco Poma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University of Cardi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sther.Dermott@bristol.ac.u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411280" y="56815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ptxmp\PSEwork\Mainstage\May\Esther\TownsendMemorial\Presentation\RR_files\image013.png"/>
          <p:cNvPicPr/>
          <p:nvPr/>
        </p:nvPicPr>
        <p:blipFill>
          <a:blip r:embed="rId1"/>
          <a:stretch/>
        </p:blipFill>
        <p:spPr>
          <a:xfrm>
            <a:off x="1835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nt Class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94" name="Chart 9" descr=""/>
          <p:cNvPicPr/>
          <p:nvPr/>
        </p:nvPicPr>
        <p:blipFill>
          <a:blip r:embed="rId3"/>
          <a:stretch/>
        </p:blipFill>
        <p:spPr>
          <a:xfrm>
            <a:off x="176040" y="1195560"/>
            <a:ext cx="85712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evidence for group of parents who fail to participate in high profile parent-chil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think assumptions about existence of group of ‘poor parents’ doing ‘poor parenting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analysis on the top of the social scale and the ‘unusual’ practices of these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ight Arrow 3"/>
          <p:cNvSpPr/>
          <p:nvPr/>
        </p:nvSpPr>
        <p:spPr>
          <a:xfrm>
            <a:off x="900000" y="32130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verty and Parenting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itial Findings 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9720" y="2133720"/>
            <a:ext cx="7964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en. G. (2011)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 Early Intervention: The Next Steps.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don: Cabinet Off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eld, F. (2010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 Foundation Years: Preventing Poor Children Becoming Poor Adults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ondon: Cabinet Off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vitas, R. (2012) ‘There may be ‘trouble’ ahead: what we know about those 120,000 ‘troubled’ families’’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overty and Social Exclusion in the UK Policy Response Series No.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elshmann, J. (2007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om Transmitted Deprivation to Social Exclusion: Policy, Poverty, and Parenting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ristol: Policy Pr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1280" y="56815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and the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gust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and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asures of par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ta - Relationship with poverty, education a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147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reased profile of paren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ger mothers’ feckless fathers’, ‘helicopter parent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646200" y="2747880"/>
            <a:ext cx="1371600" cy="18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6902280" y="2886120"/>
            <a:ext cx="1387800" cy="211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5"/>
          <a:stretch/>
        </p:blipFill>
        <p:spPr>
          <a:xfrm>
            <a:off x="4356000" y="3967200"/>
            <a:ext cx="1924200" cy="240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6"/>
          <a:stretch/>
        </p:blipFill>
        <p:spPr>
          <a:xfrm>
            <a:off x="2340000" y="3284640"/>
            <a:ext cx="1477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litic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ycle of deprivation (197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on family structure (19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ift to parenting practices (199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vidualised discourse (curr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119400" y="4164120"/>
            <a:ext cx="3600360" cy="231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3"/>
          <a:stretch/>
        </p:blipFill>
        <p:spPr>
          <a:xfrm>
            <a:off x="7553160" y="5411880"/>
            <a:ext cx="100836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vers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ight kind of parenting is a bigger influence on their [children’s] future than wealth, class, education or any other common social factor” (All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: 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x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family background, parental education, good parenting and the opportunities for learning and development…that together matter more to children than money” (Field 2010:p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oubled Famil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 (launched 2011).  Directed at 120,000 families with ‘troubled and chaotic liv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asuring Pare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135684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ll know what good parenting looks like” (David Cameron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enting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parent-child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 parent-chil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al car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5003640" y="1955880"/>
            <a:ext cx="324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698400" y="4973760"/>
            <a:ext cx="1584360" cy="59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enting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ttend school parents’ eve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isure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od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mily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667640" y="56451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843280" y="4973760"/>
            <a:ext cx="1584360" cy="59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932360" y="4983120"/>
            <a:ext cx="1584360" cy="592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me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020000" y="4973760"/>
            <a:ext cx="1439640" cy="59184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luences on Parenting Practic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poverty (&lt; 60% med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jective assessment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al qual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ployment status (anyone unemployed / all adul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employ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ceived time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3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equency of Parenting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 = 16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pic>
        <p:nvPicPr>
          <p:cNvPr id="88" name="Chart 7" descr=""/>
          <p:cNvPicPr/>
          <p:nvPr/>
        </p:nvPicPr>
        <p:blipFill>
          <a:blip r:embed="rId3"/>
          <a:stretch/>
        </p:blipFill>
        <p:spPr>
          <a:xfrm>
            <a:off x="324000" y="762120"/>
            <a:ext cx="8496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4:36:35Z</dcterms:created>
  <dc:creator>N Hicks</dc:creator>
  <dc:description/>
  <dc:language>en-US</dc:language>
  <cp:lastModifiedBy>User</cp:lastModifiedBy>
  <cp:lastPrinted>2014-06-16T15:06:45Z</cp:lastPrinted>
  <dcterms:modified xsi:type="dcterms:W3CDTF">2014-08-31T10:18:22Z</dcterms:modified>
  <cp:revision>90</cp:revision>
  <dc:subject/>
  <dc:title>PSE Conference slide</dc:title>
</cp:coreProperties>
</file>